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png" ContentType="image/png"/>
  <Override PartName="/ppt/media/image22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8.png" ContentType="image/png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7527D1-A6EA-4034-9BB6-9AD0888C6D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56CF2D-4620-441B-876C-0CDCF7693B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F04F71-1175-4FDA-91E3-8F2B412A55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A47EC8-3CBE-4779-8805-2DEF833289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160C35-2D25-4239-A8C0-69D80A5958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3F1CA3-6C80-4C58-A6B2-80DEC0E831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9A9BF8-92C0-48D3-9E19-E415EC8CE3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40F1F4-E6A5-4C0A-9C47-80A730A129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FCEB44-0E56-4226-9CB5-ABB6B19571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0A0462-58DC-4164-A141-C29A9223C6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868D3A-3AD2-4646-BB90-D75FF620E7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FC24BF-9996-4B42-A2E9-69272D5CC9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BAF7E1-B6D7-43E1-BACB-500DF9AFA2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73780A-4580-423D-A72A-AD7E13731C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F5CB32-A858-4124-8313-EEDAF1197E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EDA357-A042-4766-83C9-CB892D3066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465A83-74F6-4833-A107-839FE2D1EF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D82F66-29DA-4B0C-B91C-2B9D2792D9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260A03-5891-458A-AF4B-339D8B1772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779BBF-C721-4E0E-9EB9-8255A2B61B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6075F8-5E66-4A81-858C-66FF76335C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0DAE7F-5791-4D2F-8AFE-840AD3CE23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FF9C83-8E4C-4A37-9DCD-2B674DBE8C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EFF802-BE8D-44B2-B606-632391FA8C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7157AB-43FB-4BFC-9C7F-6F6FE17426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8C92CF-2F4B-4735-A996-AF4E3E7F98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B9FEFD-A063-4493-BA4A-DD962C3C73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4AA4F2-24ED-46BF-B4D7-84C5928F87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AF22D8-DE6F-411E-9358-23486FA3DC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5FAE98-A071-4F3F-83EC-19C63FCDD2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0E6BEF-C59B-4819-9350-74B3CFFFAC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BA045C-6BA2-495A-B1AF-2A5954F14C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80E987-80E4-4447-B5D3-B538E52317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0ED1E0-DEB3-427C-9281-D649888BC4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79AE84-F508-44FA-980F-2F379EED28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59249F-13BD-456A-B444-F28E2591D2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3BBB43-34C5-4397-B231-D66E350497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EAF504-B181-4B41-93A8-92F23AE4F2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3FE3F9-6B8B-4943-A192-B2133CCC5F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DABABF-BD13-40D7-B73B-1B5AB26967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2ED64C-E9AF-479E-B93A-F20F13B5E2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17BBAF-F153-4377-B88A-9802C38BED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2F836B-DAEA-45E7-9DA7-BB0AE3D5C9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442176-E925-467E-BCFC-39699208B1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6E17AE-0BD8-4AB6-80A5-424554119F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9DE01A-3DD1-4371-81D9-76CEE28BCA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BBB930-9154-44CF-A4B1-61AF66DC10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C847AE-933E-4B40-AFA4-7C38A6BD41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5D9BC8-3DF8-4D40-9D50-47663C25AC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BB0D98-7593-4233-B13D-A182A767DB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FFD966-2B4D-4446-ADEF-6734209F40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B54BEA-C199-4581-A6BC-AC2E8B4E9F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16CC7-A4FE-40BF-8442-86D613F255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78D5FE-C7C5-4430-B4DD-2232462CBA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CAFD5A-3F6C-4A86-A25F-ABBC681299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8CA36A-7DA5-4B3B-9F33-DCAF407A5F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679E85-A43D-417E-94BE-667466513E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IGHT GIVE REAL EXAMPLES HERE? FROM WAT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1E2C58-3814-4952-9115-F04302ED63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064950-030A-4322-A23F-516331DF3A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6B465C-1D9C-4228-9B1E-B687693D70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21D622-4B7A-40CE-B812-B90C6137D4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62E-981B-4B6B-B217-3A4A4EE8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9B8-063A-46C7-A419-97F696F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CCA-FF86-42F8-BEB3-DAA27DF6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142-DEF8-4A40-A9C0-C88D42C0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2E41-6A03-4C52-BB7B-5C9EF2F5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16AF-CCD8-4CA1-8F6D-1FF2CFE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2404-F1D6-4275-BDE6-7590EE59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AA40-8E31-43E6-A8B1-22038EB2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B88-B1AB-481A-A21E-471A195C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7A6F-8EC6-445C-9E91-18F9366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E22E-2613-4FB9-A4C8-99FE946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E23-62F2-4EB4-84A9-EAB6BB1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B81-578C-4C15-A5FA-1CC57F2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F00-C3B3-435F-9324-1E712C1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EF6B-E983-44BD-9884-3F2B84D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425-A1D1-4007-AF08-5C863A9B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516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9440" y="40384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51C-4AFD-45B6-AE81-B115DF90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6CE-3489-4079-B59A-25C8467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7FB-B025-4409-8ADC-3A2622B5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29A-BB19-4B92-A201-88CB6F8D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07E-9FBE-4028-9E42-783C810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3E1-F6A7-4BE7-8D0B-E23C56BE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7BD-A315-4B46-BFB2-A116830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481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384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4EF-AEF8-477D-BB4E-421CDF3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C38-4B96-4F07-8391-1EB93D9DD632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E451-44AA-4117-8068-9020BB8E6C3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" name="Object 2063"/>
          <p:cNvGraphicFramePr/>
          <p:nvPr/>
        </p:nvGraphicFramePr>
        <p:xfrm>
          <a:off x="457200" y="1143000"/>
          <a:ext cx="830592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0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830592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213-8AA0-44FE-BE81-EB2787BA369F}" type="datetime3">
              <a:rPr b="0" lang="en-US" sz="1400" spc="-1" strike="noStrike">
                <a:solidFill>
                  <a:srgbClr val="1c1c1c"/>
                </a:solidFill>
                <a:latin typeface="Tahoma"/>
                <a:ea typeface="굴림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Data Mining: Concepts and Techniq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F19-0150-4E6E-BC1F-8A836D702E0C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s.umd.edu/~getoor/" TargetMode="External"/><Relationship Id="rId2" Type="http://schemas.openxmlformats.org/officeDocument/2006/relationships/hyperlink" Target="http://www-faculty.cs.uiuc.edu/~czh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44D9-1CFE-4E8A-A2B5-AFB9D2C4844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8729-5E6B-496D-BC45-0DD3DD6A4A2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 rot="724800">
            <a:off x="6476760" y="1980720"/>
            <a:ext cx="838080" cy="228600"/>
          </a:xfrm>
          <a:prstGeom prst="leftArrow">
            <a:avLst>
              <a:gd name="adj1" fmla="val 0"/>
              <a:gd name="adj2" fmla="val 292833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97DE-19D3-4D47-9F13-362234B8BFE7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C3D-46DA-426C-AA45-2007F60F5E6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924680" y="335268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7E8D-2EE6-4AA9-B9DD-2B3011C02C7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2165-1ECF-47FC-8C35-4AA66DCF0B7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ome Models of Network Gener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andom graphs (Erdös-Rény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del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ives few components and small di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es not give high clustering and heavy-tailed degree dis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s the mathematically most well-studied and understood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atts-Strogatz model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ive few components, small diameter and high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es not give heavy-tailed degree dis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ives few components, small diameter and heavy-tailed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es not give high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ierarchical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ew components, small diameter, high clustering, heavy-tai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ffiliation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dels group-actor 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E87A-8E2C-4E18-B1FD-EC7FE60F7797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10E-2EAF-482D-BD18-4FB32C0CD2A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  <a:ea typeface="SimSun"/>
              </a:rPr>
              <a:t>Models of Social Network Gener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SimSun"/>
              </a:rPr>
              <a:t>Random Graph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Erdös-Rényi mode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atts-Strogatz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4"/>
          <p:cNvSpPr/>
          <p:nvPr/>
        </p:nvSpPr>
        <p:spPr>
          <a:xfrm rot="724800">
            <a:off x="7238520" y="182844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913-4A25-4F2C-BEFE-69168C30F65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5B9-7BB8-44E2-A51C-AF4AC10CFC3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The Erdös-Rényi (ER) Model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(Random Graph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ll edges are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equally probable an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ppear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W size N &gt; 1 and probability p: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istribution G(N,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ach edge (u,v) chosen to appear with probability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(N-1)/2 trials of a biased coin fl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usual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regime of inter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is when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p ~ 1/N, N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.g. p = 1/2N, p = 1/N, p = 2/N, p=10/N, p = log(N)/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n expectation, each vertex will have a “small” number of neighb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ill then examine what happens when 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inf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an thus study properties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large networ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with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bounded deg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egree distrib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f a typical G drawn from G(N,p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raw G according to G(N,p); look at a random vertex u in 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Pr[deg(u) = k] for any fixed k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Poisson distrib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with mean l = p(N-1) ~ p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harply concentrated;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heavy-tai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specially easy to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gener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NWs from G(N,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5107-6B4B-4DDA-A094-330F965ABD7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B729-AABC-41AE-A09B-CB9DC7A298E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ER_page1"/>
          <p:cNvPicPr/>
          <p:nvPr/>
        </p:nvPicPr>
        <p:blipFill>
          <a:blip r:embed="rId1"/>
          <a:stretch/>
        </p:blipFill>
        <p:spPr>
          <a:xfrm>
            <a:off x="912960" y="1293840"/>
            <a:ext cx="3290760" cy="3433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858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Erdös-Rényi Model (196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erdos2"/>
          <p:cNvPicPr/>
          <p:nvPr/>
        </p:nvPicPr>
        <p:blipFill>
          <a:blip r:embed="rId2"/>
          <a:stretch/>
        </p:blipFill>
        <p:spPr>
          <a:xfrm>
            <a:off x="7010280" y="106200"/>
            <a:ext cx="1706760" cy="1905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762120" y="5181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- Democr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-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858000" y="2087640"/>
            <a:ext cx="2286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굴림"/>
              </a:rPr>
              <a:t>Pál Erdös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  <a:ea typeface="굴림"/>
              </a:rPr>
              <a:t>(1913-199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2479680" y="1608120"/>
            <a:ext cx="905040" cy="25909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"/>
          <p:cNvSpPr/>
          <p:nvPr/>
        </p:nvSpPr>
        <p:spPr>
          <a:xfrm flipH="1">
            <a:off x="1196640" y="1836720"/>
            <a:ext cx="2187720" cy="7621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1649520" y="1607760"/>
            <a:ext cx="830160" cy="2286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3384720" y="1836720"/>
            <a:ext cx="452160" cy="7621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2"/>
          <p:cNvSpPr/>
          <p:nvPr/>
        </p:nvSpPr>
        <p:spPr>
          <a:xfrm flipH="1" flipV="1">
            <a:off x="3384720" y="1836360"/>
            <a:ext cx="452160" cy="16002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3"/>
          <p:cNvSpPr/>
          <p:nvPr/>
        </p:nvSpPr>
        <p:spPr>
          <a:xfrm flipH="1">
            <a:off x="2479680" y="4122720"/>
            <a:ext cx="905040" cy="30492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1197000" y="2598840"/>
            <a:ext cx="452520" cy="16002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15"/>
          <p:cNvSpPr/>
          <p:nvPr/>
        </p:nvSpPr>
        <p:spPr>
          <a:xfrm flipV="1">
            <a:off x="1197000" y="1836360"/>
            <a:ext cx="2187720" cy="160020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038480" y="1843200"/>
            <a:ext cx="24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Connect with probability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264200" y="2741400"/>
            <a:ext cx="18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굴림"/>
              </a:rPr>
              <a:t>p=1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N=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~1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3330720" y="4648320"/>
            <a:ext cx="1775880" cy="900000"/>
            <a:chOff x="3330720" y="4648320"/>
            <a:chExt cx="1775880" cy="900000"/>
          </a:xfrm>
        </p:grpSpPr>
        <p:pic>
          <p:nvPicPr>
            <p:cNvPr id="207" name="Object 19" descr=""/>
            <p:cNvPicPr/>
            <p:nvPr/>
          </p:nvPicPr>
          <p:blipFill>
            <a:blip r:embed="rId3"/>
            <a:stretch/>
          </p:blipFill>
          <p:spPr>
            <a:xfrm>
              <a:off x="3371040" y="4724640"/>
              <a:ext cx="173556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20"/>
            <p:cNvSpPr/>
            <p:nvPr/>
          </p:nvSpPr>
          <p:spPr>
            <a:xfrm>
              <a:off x="3330720" y="4648320"/>
              <a:ext cx="8298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21"/>
          <p:cNvGrpSpPr/>
          <p:nvPr/>
        </p:nvGrpSpPr>
        <p:grpSpPr>
          <a:xfrm>
            <a:off x="5638680" y="3573360"/>
            <a:ext cx="3525840" cy="3284640"/>
            <a:chOff x="5638680" y="3573360"/>
            <a:chExt cx="3525840" cy="3284640"/>
          </a:xfrm>
        </p:grpSpPr>
        <p:pic>
          <p:nvPicPr>
            <p:cNvPr id="210" name="Picture 22" descr="gaussian"/>
            <p:cNvPicPr/>
            <p:nvPr/>
          </p:nvPicPr>
          <p:blipFill>
            <a:blip r:embed="rId4"/>
            <a:stretch/>
          </p:blipFill>
          <p:spPr>
            <a:xfrm>
              <a:off x="5638680" y="4016520"/>
              <a:ext cx="350532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23"/>
            <p:cNvSpPr/>
            <p:nvPr/>
          </p:nvSpPr>
          <p:spPr>
            <a:xfrm>
              <a:off x="6123240" y="3573360"/>
              <a:ext cx="30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Poisson distribu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C411-BA9E-4ECA-9A4D-B6AB5659185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C260-5237-4A32-8F52-F1A991A5359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The Clustering Coefficient of a Network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et nbr(u) denote the set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neighb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f u in a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ll vertices v such that the edge (u,v) is in the gra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clustering coefficient of 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et k = |nbr(u)| (i.e., number of neighbors of 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hoose(k,2): max possible # of edges between vertices in nbr(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(u) = (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actu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 # of edges between vertices in nbr(u))/choose(k,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0 &lt;= c(u) &lt;= 1; measure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liquish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f u’s neighborh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lustering coefficient of a grap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verage of c(u) over all vertices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5867280" y="4572000"/>
            <a:ext cx="395280" cy="425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8001000" y="5715000"/>
            <a:ext cx="395280" cy="425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6934320" y="6019920"/>
            <a:ext cx="395280" cy="425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562720" y="5943600"/>
            <a:ext cx="395280" cy="425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6705720" y="5257800"/>
            <a:ext cx="395280" cy="425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248520" y="487692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5943240" y="556272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086600" y="55627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7010280" y="563868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6172200" y="4952880"/>
            <a:ext cx="83808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7"/>
          <p:cNvSpPr/>
          <p:nvPr/>
        </p:nvSpPr>
        <p:spPr>
          <a:xfrm flipH="1">
            <a:off x="5866920" y="50292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5943600" y="61722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9"/>
          <p:cNvSpPr/>
          <p:nvPr/>
        </p:nvSpPr>
        <p:spPr>
          <a:xfrm flipV="1">
            <a:off x="7315200" y="601956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6248520" y="4876920"/>
            <a:ext cx="17524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1"/>
          <p:cNvSpPr/>
          <p:nvPr/>
        </p:nvSpPr>
        <p:spPr>
          <a:xfrm flipV="1">
            <a:off x="5943600" y="5867280"/>
            <a:ext cx="20574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033360" y="547704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k =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hoose(k,2) =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(u) = 4/6 = 0.666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5F9-AE6F-47A0-9536-F1C6929C631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A6A1-EA0C-483D-A3E3-F9D3F91DEF8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: My friends will likely know each oth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114800" y="18860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obability to be connected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5"/>
          <p:cNvSpPr/>
          <p:nvPr/>
        </p:nvSpPr>
        <p:spPr>
          <a:xfrm flipV="1">
            <a:off x="3276720" y="241884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657600" y="272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191120" y="25560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#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f links between 1,2,…n neighb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267080" y="2936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(n-1)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4267080" y="29368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Object 10"/>
          <p:cNvGraphicFramePr/>
          <p:nvPr/>
        </p:nvGraphicFramePr>
        <p:xfrm>
          <a:off x="1447920" y="1886040"/>
          <a:ext cx="184788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86040"/>
                    <a:ext cx="184788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11"/>
          <p:cNvSpPr/>
          <p:nvPr/>
        </p:nvSpPr>
        <p:spPr>
          <a:xfrm>
            <a:off x="609480" y="4311720"/>
            <a:ext cx="381024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s are clustered    [large C(p)]                         but have a small characteristic path length                            [small L(p)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12"/>
          <p:cNvGraphicFramePr/>
          <p:nvPr/>
        </p:nvGraphicFramePr>
        <p:xfrm>
          <a:off x="4533840" y="3422520"/>
          <a:ext cx="4610160" cy="328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3840" y="3422520"/>
                    <a:ext cx="461016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3"/>
          <p:cNvSpPr/>
          <p:nvPr/>
        </p:nvSpPr>
        <p:spPr>
          <a:xfrm>
            <a:off x="380880" y="4572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The Clustering Coefficient of a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D4C2-A02A-492C-B351-9956B42AEC7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4689-D131-4E6B-91D5-8ED93E84948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mall Worlds and Occam’s Razor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, should generate large clustering coeffic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e “programmed” the model to do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atts claims that proving precise statements is hard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we do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ant a new model for every littl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dos-Reny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mall di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-mod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high clustering co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the interests of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Occam’s Raz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, we would like to f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single, si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model of network genera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at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captures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att’s small world: small diameter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high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0833-CB1A-43E7-A352-16C08BD34CA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37B-A856-4D38-8451-30C6E83D8F2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ase 1: Kevin Bacon Graph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ertices: actors and actr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dge between u and v if they appeared in a film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80880" y="4618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s Kevin Bacon the most connected act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914400" y="5897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굴림"/>
              </a:rPr>
              <a:t>N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3352680" y="2286000"/>
            <a:ext cx="5791320" cy="4419720"/>
            <a:chOff x="3352680" y="2286000"/>
            <a:chExt cx="5791320" cy="4419720"/>
          </a:xfrm>
        </p:grpSpPr>
        <p:grpSp>
          <p:nvGrpSpPr>
            <p:cNvPr id="262" name="Group 4"/>
            <p:cNvGrpSpPr/>
            <p:nvPr/>
          </p:nvGrpSpPr>
          <p:grpSpPr>
            <a:xfrm>
              <a:off x="3352680" y="2286000"/>
              <a:ext cx="5791320" cy="4419720"/>
              <a:chOff x="3352680" y="2286000"/>
              <a:chExt cx="5791320" cy="4419720"/>
            </a:xfrm>
          </p:grpSpPr>
          <p:graphicFrame>
            <p:nvGraphicFramePr>
              <p:cNvPr id="263" name="Object 5"/>
              <p:cNvGraphicFramePr/>
              <p:nvPr/>
            </p:nvGraphicFramePr>
            <p:xfrm>
              <a:off x="3352680" y="2286000"/>
              <a:ext cx="5791320" cy="44197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264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52680" y="2286000"/>
                        <a:ext cx="5791320" cy="441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5" name="Rectangle 6"/>
              <p:cNvSpPr/>
              <p:nvPr/>
            </p:nvSpPr>
            <p:spPr>
              <a:xfrm>
                <a:off x="3501000" y="5983200"/>
                <a:ext cx="5219280" cy="2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3430440" y="6055560"/>
              <a:ext cx="52192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876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    Kevin Baco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        2.786981        46       181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228600" y="2743200"/>
            <a:ext cx="2743200" cy="1600200"/>
            <a:chOff x="228600" y="2743200"/>
            <a:chExt cx="2743200" cy="1600200"/>
          </a:xfrm>
        </p:grpSpPr>
        <p:sp>
          <p:nvSpPr>
            <p:cNvPr id="268" name="Rectangle 8"/>
            <p:cNvSpPr/>
            <p:nvPr/>
          </p:nvSpPr>
          <p:spPr>
            <a:xfrm>
              <a:off x="228600" y="2743200"/>
              <a:ext cx="2743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Kevin Bac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9" name="Group 15"/>
            <p:cNvGrpSpPr/>
            <p:nvPr/>
          </p:nvGrpSpPr>
          <p:grpSpPr>
            <a:xfrm>
              <a:off x="228600" y="3276360"/>
              <a:ext cx="2743200" cy="1067040"/>
              <a:chOff x="228600" y="3276360"/>
              <a:chExt cx="2743200" cy="1067040"/>
            </a:xfrm>
          </p:grpSpPr>
          <p:sp>
            <p:nvSpPr>
              <p:cNvPr id="270" name="Text Box 7"/>
              <p:cNvSpPr/>
              <p:nvPr/>
            </p:nvSpPr>
            <p:spPr>
              <a:xfrm>
                <a:off x="304560" y="3352680"/>
                <a:ext cx="2590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No. of movies : 46       No. of actors : 1811         Average separation: 2.79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228600" y="3276360"/>
                <a:ext cx="2743200" cy="106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408-CD7E-488C-82D7-937799AA506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2223-A856-4D70-9265-2E25E630C9B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2" descr="klogdahl2"/>
          <p:cNvPicPr/>
          <p:nvPr/>
        </p:nvPicPr>
        <p:blipFill>
          <a:blip r:embed="rId1"/>
          <a:stretch/>
        </p:blipFill>
        <p:spPr>
          <a:xfrm>
            <a:off x="2316240" y="76320"/>
            <a:ext cx="4922640" cy="655308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H="1">
            <a:off x="1904760" y="1219320"/>
            <a:ext cx="28954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1905120" y="2895480"/>
            <a:ext cx="41148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1828800" y="4648320"/>
            <a:ext cx="685800" cy="761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533520" y="4800600"/>
          <a:ext cx="12794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800600"/>
                    <a:ext cx="1279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7"/>
          <p:cNvSpPr/>
          <p:nvPr/>
        </p:nvSpPr>
        <p:spPr>
          <a:xfrm>
            <a:off x="503280" y="16754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d Stei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56840" y="63234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rtin Sh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33280" y="38242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onald Plea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54080" y="1675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82440" y="403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122040" y="632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Object 13"/>
          <p:cNvGraphicFramePr/>
          <p:nvPr/>
        </p:nvGraphicFramePr>
        <p:xfrm>
          <a:off x="533520" y="2209680"/>
          <a:ext cx="129384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209680"/>
                    <a:ext cx="1293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4"/>
          <p:cNvGraphicFramePr/>
          <p:nvPr/>
        </p:nvGraphicFramePr>
        <p:xfrm>
          <a:off x="484200" y="76320"/>
          <a:ext cx="1425600" cy="162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4200" y="76320"/>
                    <a:ext cx="1425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Group 15"/>
          <p:cNvGrpSpPr/>
          <p:nvPr/>
        </p:nvGrpSpPr>
        <p:grpSpPr>
          <a:xfrm>
            <a:off x="5029200" y="2284920"/>
            <a:ext cx="4170240" cy="3430080"/>
            <a:chOff x="5029200" y="2284920"/>
            <a:chExt cx="4170240" cy="3430080"/>
          </a:xfrm>
        </p:grpSpPr>
        <p:sp>
          <p:nvSpPr>
            <p:cNvPr id="292" name="Line 16"/>
            <p:cNvSpPr/>
            <p:nvPr/>
          </p:nvSpPr>
          <p:spPr>
            <a:xfrm>
              <a:off x="5029200" y="3809880"/>
              <a:ext cx="2590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93" name="Picture 17" descr="kevin"/>
            <p:cNvPicPr/>
            <p:nvPr/>
          </p:nvPicPr>
          <p:blipFill>
            <a:blip r:embed="rId8"/>
            <a:stretch/>
          </p:blipFill>
          <p:spPr>
            <a:xfrm>
              <a:off x="7696080" y="3276720"/>
              <a:ext cx="978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Object 18" descr=""/>
            <p:cNvPicPr/>
            <p:nvPr/>
          </p:nvPicPr>
          <p:blipFill>
            <a:blip r:embed="rId9"/>
            <a:stretch/>
          </p:blipFill>
          <p:spPr>
            <a:xfrm>
              <a:off x="7315200" y="3124080"/>
              <a:ext cx="188424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9"/>
            <p:cNvSpPr/>
            <p:nvPr/>
          </p:nvSpPr>
          <p:spPr>
            <a:xfrm>
              <a:off x="7317000" y="2284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#87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7315920" y="266580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Kevin Bac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acon-map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52B-8392-47CB-9695-EFD82165F7F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E0DF-5AB8-4779-A329-84E586DEB31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57200" y="45720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oc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320" y="1752480"/>
            <a:ext cx="41907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ahoma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individu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Tahoma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  social relationship (family/work/friendship/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066680" y="411372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  <a:ea typeface="굴림"/>
              </a:rPr>
              <a:t>S. Mil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(196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70000" y="5394240"/>
            <a:ext cx="62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cial networks: Man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individ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di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social inter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between them.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103400" y="4388040"/>
            <a:ext cx="174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ahoma"/>
                <a:ea typeface="굴림"/>
              </a:rPr>
              <a:t>John Gu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492360" y="4418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x Degrees of S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8" descr="11221387"/>
          <p:cNvPicPr/>
          <p:nvPr/>
        </p:nvPicPr>
        <p:blipFill>
          <a:blip r:embed="rId1"/>
          <a:stretch/>
        </p:blipFill>
        <p:spPr>
          <a:xfrm>
            <a:off x="4114800" y="127944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ADFD-09F1-4812-A555-3D3550BE86D3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BBE6-559D-4B7B-919A-453E201716D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Tahoma"/>
                <a:ea typeface="SimSun"/>
              </a:rPr>
              <a:t>Models of Social Network Genera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SimSun"/>
              </a:rPr>
              <a:t>Random Graph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Erdös-Rényi mode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atts-Strogatz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4"/>
          <p:cNvSpPr/>
          <p:nvPr/>
        </p:nvSpPr>
        <p:spPr>
          <a:xfrm rot="724800">
            <a:off x="4495320" y="312372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6BE-292C-4CA7-B5D1-CA208A304B3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F219-9DFD-4B16-B5E0-6DD4CE8D056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2057400" y="45720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219320" y="2536920"/>
            <a:ext cx="33526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800 million documents (S. Lawrence, 19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495680" y="4518000"/>
            <a:ext cx="32767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Impact"/>
                <a:ea typeface="굴림"/>
              </a:rPr>
              <a:t>ROBO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collects all URL’s found in a document and follows them recurs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19320" y="1666800"/>
            <a:ext cx="365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WWW document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URL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6" descr="small_net_color"/>
          <p:cNvPicPr/>
          <p:nvPr/>
        </p:nvPicPr>
        <p:blipFill>
          <a:blip r:embed="rId1"/>
          <a:stretch/>
        </p:blipFill>
        <p:spPr>
          <a:xfrm>
            <a:off x="1143000" y="3375000"/>
            <a:ext cx="3006720" cy="3025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r2d2_klein"/>
          <p:cNvPicPr/>
          <p:nvPr/>
        </p:nvPicPr>
        <p:blipFill>
          <a:blip r:embed="rId2"/>
          <a:stretch/>
        </p:blipFill>
        <p:spPr>
          <a:xfrm>
            <a:off x="5486400" y="1774800"/>
            <a:ext cx="1681200" cy="2610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2819520" y="62485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. Albert, H. Jeong, A-L Barabasi, Natur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4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130 (199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7700-0910-46D5-A79E-AAF5B58D7B96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4F1C-2257-44D0-AC89-20C39AC278D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4" descr="gaussian"/>
          <p:cNvPicPr/>
          <p:nvPr/>
        </p:nvPicPr>
        <p:blipFill>
          <a:blip r:embed="rId1"/>
          <a:stretch/>
        </p:blipFill>
        <p:spPr>
          <a:xfrm>
            <a:off x="0" y="2133720"/>
            <a:ext cx="3048120" cy="24699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380880" y="43999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~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80880" y="5441400"/>
            <a:ext cx="2590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WW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(k=500)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808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pected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429000" y="158436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eal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9" descr="out"/>
          <p:cNvPicPr/>
          <p:nvPr/>
        </p:nvPicPr>
        <p:blipFill>
          <a:blip r:embed="rId2"/>
          <a:srcRect l="0" t="5059" r="0" b="0"/>
          <a:stretch/>
        </p:blipFill>
        <p:spPr>
          <a:xfrm>
            <a:off x="2946240" y="1981080"/>
            <a:ext cx="3162600" cy="2971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in"/>
          <p:cNvPicPr/>
          <p:nvPr/>
        </p:nvPicPr>
        <p:blipFill>
          <a:blip r:embed="rId3"/>
          <a:srcRect l="0" t="4456" r="0" b="0"/>
          <a:stretch/>
        </p:blipFill>
        <p:spPr>
          <a:xfrm>
            <a:off x="5918040" y="1981080"/>
            <a:ext cx="3225960" cy="2971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1"/>
          <p:cNvSpPr/>
          <p:nvPr/>
        </p:nvSpPr>
        <p:spPr>
          <a:xfrm>
            <a:off x="3708360" y="4876920"/>
            <a:ext cx="20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 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962520" y="548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4389480" y="225972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 2.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7517160" y="2259720"/>
            <a:ext cx="125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 2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6931440" y="4850640"/>
            <a:ext cx="169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 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248520" y="5307480"/>
            <a:ext cx="2666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WW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(k=500) ~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962520" y="62625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J. Kleinberg, et. al, Proceedings of the ICCC (199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057400" y="45720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3657600" y="5410080"/>
            <a:ext cx="5257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EE41-BE13-4F4F-A3CA-5877E678345F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261-F413-42F0-94AC-9C4A0725ECA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2"/>
          <p:cNvGrpSpPr/>
          <p:nvPr/>
        </p:nvGrpSpPr>
        <p:grpSpPr>
          <a:xfrm>
            <a:off x="533520" y="2743200"/>
            <a:ext cx="8305560" cy="3886200"/>
            <a:chOff x="533520" y="2743200"/>
            <a:chExt cx="8305560" cy="3886200"/>
          </a:xfrm>
        </p:grpSpPr>
        <p:grpSp>
          <p:nvGrpSpPr>
            <p:cNvPr id="337" name="Group 3"/>
            <p:cNvGrpSpPr/>
            <p:nvPr/>
          </p:nvGrpSpPr>
          <p:grpSpPr>
            <a:xfrm>
              <a:off x="533520" y="2743200"/>
              <a:ext cx="8305560" cy="3886200"/>
              <a:chOff x="533520" y="2743200"/>
              <a:chExt cx="8305560" cy="3886200"/>
            </a:xfrm>
          </p:grpSpPr>
          <p:sp>
            <p:nvSpPr>
              <p:cNvPr id="338" name="Rectangle 4"/>
              <p:cNvSpPr/>
              <p:nvPr/>
            </p:nvSpPr>
            <p:spPr>
              <a:xfrm rot="16200000">
                <a:off x="750960" y="4859280"/>
                <a:ext cx="66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&lt;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l &gt;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9" name="Group 5"/>
              <p:cNvGrpSpPr/>
              <p:nvPr/>
            </p:nvGrpSpPr>
            <p:grpSpPr>
              <a:xfrm>
                <a:off x="533520" y="2743200"/>
                <a:ext cx="8305560" cy="3886200"/>
                <a:chOff x="533520" y="2743200"/>
                <a:chExt cx="8305560" cy="3886200"/>
              </a:xfrm>
            </p:grpSpPr>
            <p:sp>
              <p:nvSpPr>
                <p:cNvPr id="340" name="Text Box 6"/>
                <p:cNvSpPr/>
                <p:nvPr/>
              </p:nvSpPr>
              <p:spPr>
                <a:xfrm>
                  <a:off x="533520" y="2743200"/>
                  <a:ext cx="8305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 </a:t>
                  </a:r>
                  <a:r>
                    <a:rPr b="1" lang="en-US" sz="2000" spc="-1" strike="noStrike">
                      <a:solidFill>
                        <a:srgbClr val="800080"/>
                      </a:solidFill>
                      <a:latin typeface="Times New Roman"/>
                      <a:ea typeface="굴림"/>
                    </a:rPr>
                    <a:t>Finite size scaling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: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 create a network with N nodes with 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in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(k) and 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out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굴림"/>
                    </a:rPr>
                    <a:t>(k)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1" name="Text Box 7"/>
                <p:cNvSpPr/>
                <p:nvPr/>
              </p:nvSpPr>
              <p:spPr>
                <a:xfrm>
                  <a:off x="2895480" y="3276360"/>
                  <a:ext cx="3733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9900"/>
                      </a:solidFill>
                      <a:latin typeface="Times New Roman"/>
                      <a:ea typeface="굴림"/>
                    </a:rPr>
                    <a:t>&lt; </a:t>
                  </a:r>
                  <a:r>
                    <a:rPr b="1" i="1" lang="en-US" sz="2400" spc="-1" strike="noStrike">
                      <a:solidFill>
                        <a:srgbClr val="009900"/>
                      </a:solidFill>
                      <a:latin typeface="Times New Roman"/>
                      <a:ea typeface="굴림"/>
                    </a:rPr>
                    <a:t>l &gt; = 0.35 + 2.06 log(N)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aphicFrame>
              <p:nvGraphicFramePr>
                <p:cNvPr id="342" name="Object 8"/>
                <p:cNvGraphicFramePr/>
                <p:nvPr/>
              </p:nvGraphicFramePr>
              <p:xfrm>
                <a:off x="1219320" y="3790800"/>
                <a:ext cx="3990960" cy="2838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3" name="Object 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3790800"/>
                          <a:ext cx="3990960" cy="2838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344" name="Rectangle 9"/>
            <p:cNvSpPr/>
            <p:nvPr/>
          </p:nvSpPr>
          <p:spPr>
            <a:xfrm>
              <a:off x="4643280" y="429264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5" name="Oval 11"/>
          <p:cNvSpPr/>
          <p:nvPr/>
        </p:nvSpPr>
        <p:spPr>
          <a:xfrm>
            <a:off x="2209680" y="141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1600200" y="1952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2057400" y="2486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Oval 14"/>
          <p:cNvSpPr/>
          <p:nvPr/>
        </p:nvSpPr>
        <p:spPr>
          <a:xfrm>
            <a:off x="3657600" y="22575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Oval 15"/>
          <p:cNvSpPr/>
          <p:nvPr/>
        </p:nvSpPr>
        <p:spPr>
          <a:xfrm>
            <a:off x="2971800" y="2486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16"/>
          <p:cNvSpPr/>
          <p:nvPr/>
        </p:nvSpPr>
        <p:spPr>
          <a:xfrm>
            <a:off x="2590920" y="1952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Oval 17"/>
          <p:cNvSpPr/>
          <p:nvPr/>
        </p:nvSpPr>
        <p:spPr>
          <a:xfrm>
            <a:off x="3244680" y="1738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V="1">
            <a:off x="1676520" y="149544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1676520" y="202896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2133720" y="25146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21"/>
          <p:cNvSpPr/>
          <p:nvPr/>
        </p:nvSpPr>
        <p:spPr>
          <a:xfrm>
            <a:off x="2286000" y="1495440"/>
            <a:ext cx="3049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22"/>
          <p:cNvSpPr/>
          <p:nvPr/>
        </p:nvSpPr>
        <p:spPr>
          <a:xfrm>
            <a:off x="3276720" y="180036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3"/>
          <p:cNvSpPr/>
          <p:nvPr/>
        </p:nvSpPr>
        <p:spPr>
          <a:xfrm flipV="1">
            <a:off x="2666880" y="1800000"/>
            <a:ext cx="6098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4495680" y="126684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[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=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[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7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 &gt; =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5"/>
          <p:cNvSpPr/>
          <p:nvPr/>
        </p:nvSpPr>
        <p:spPr>
          <a:xfrm>
            <a:off x="1373040" y="1724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26"/>
          <p:cNvSpPr/>
          <p:nvPr/>
        </p:nvSpPr>
        <p:spPr>
          <a:xfrm>
            <a:off x="1830240" y="240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1982520" y="119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2592360" y="1876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3049560" y="23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3512880" y="1495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3665520" y="218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32"/>
          <p:cNvSpPr/>
          <p:nvPr/>
        </p:nvSpPr>
        <p:spPr>
          <a:xfrm flipH="1">
            <a:off x="2133720" y="202896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33"/>
          <p:cNvSpPr/>
          <p:nvPr/>
        </p:nvSpPr>
        <p:spPr>
          <a:xfrm flipV="1">
            <a:off x="3048120" y="180000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Group 34"/>
          <p:cNvGrpSpPr/>
          <p:nvPr/>
        </p:nvGrpSpPr>
        <p:grpSpPr>
          <a:xfrm>
            <a:off x="1600200" y="3886200"/>
            <a:ext cx="6934320" cy="1608480"/>
            <a:chOff x="1600200" y="3886200"/>
            <a:chExt cx="6934320" cy="1608480"/>
          </a:xfrm>
        </p:grpSpPr>
        <p:grpSp>
          <p:nvGrpSpPr>
            <p:cNvPr id="369" name="Group 35"/>
            <p:cNvGrpSpPr/>
            <p:nvPr/>
          </p:nvGrpSpPr>
          <p:grpSpPr>
            <a:xfrm>
              <a:off x="1600200" y="4190760"/>
              <a:ext cx="2590920" cy="685800"/>
              <a:chOff x="1600200" y="4190760"/>
              <a:chExt cx="2590920" cy="685800"/>
            </a:xfrm>
          </p:grpSpPr>
          <p:sp>
            <p:nvSpPr>
              <p:cNvPr id="370" name="Text Box 36"/>
              <p:cNvSpPr/>
              <p:nvPr/>
            </p:nvSpPr>
            <p:spPr>
              <a:xfrm>
                <a:off x="2133720" y="441936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nd.edu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Text Box 37"/>
              <p:cNvSpPr/>
              <p:nvPr/>
            </p:nvSpPr>
            <p:spPr>
              <a:xfrm>
                <a:off x="1600200" y="4190760"/>
                <a:ext cx="2590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Line 38"/>
              <p:cNvSpPr/>
              <p:nvPr/>
            </p:nvSpPr>
            <p:spPr>
              <a:xfrm>
                <a:off x="2895840" y="4647960"/>
                <a:ext cx="685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73" name="Text Box 39"/>
            <p:cNvSpPr/>
            <p:nvPr/>
          </p:nvSpPr>
          <p:spPr>
            <a:xfrm>
              <a:off x="5257800" y="3886200"/>
              <a:ext cx="327672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Times New Roman"/>
                  <a:ea typeface="굴림"/>
                </a:rPr>
                <a:t>19 degrees of separ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         R. Albert et al Nature (99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ased on 800 million webpages                 [S. Lawrence et al Nature (99)]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40"/>
            <p:cNvSpPr/>
            <p:nvPr/>
          </p:nvSpPr>
          <p:spPr>
            <a:xfrm flipH="1">
              <a:off x="5028840" y="4095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5" name="Group 41"/>
          <p:cNvGrpSpPr/>
          <p:nvPr/>
        </p:nvGrpSpPr>
        <p:grpSpPr>
          <a:xfrm>
            <a:off x="2286000" y="4286520"/>
            <a:ext cx="2819520" cy="1594080"/>
            <a:chOff x="2286000" y="4286520"/>
            <a:chExt cx="2819520" cy="1594080"/>
          </a:xfrm>
        </p:grpSpPr>
        <p:grpSp>
          <p:nvGrpSpPr>
            <p:cNvPr id="376" name="Group 42"/>
            <p:cNvGrpSpPr/>
            <p:nvPr/>
          </p:nvGrpSpPr>
          <p:grpSpPr>
            <a:xfrm>
              <a:off x="2286000" y="4476600"/>
              <a:ext cx="2819520" cy="1404000"/>
              <a:chOff x="2286000" y="4476600"/>
              <a:chExt cx="2819520" cy="1404000"/>
            </a:xfrm>
          </p:grpSpPr>
          <p:sp>
            <p:nvSpPr>
              <p:cNvPr id="377" name="Text Box 43"/>
              <p:cNvSpPr/>
              <p:nvPr/>
            </p:nvSpPr>
            <p:spPr>
              <a:xfrm>
                <a:off x="2286000" y="5543280"/>
                <a:ext cx="281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A. Broder et al WWW9 (00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Text Box 44"/>
              <p:cNvSpPr/>
              <p:nvPr/>
            </p:nvSpPr>
            <p:spPr>
              <a:xfrm>
                <a:off x="3962520" y="523836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B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Line 45"/>
              <p:cNvSpPr/>
              <p:nvPr/>
            </p:nvSpPr>
            <p:spPr>
              <a:xfrm flipV="1">
                <a:off x="4343400" y="4476600"/>
                <a:ext cx="38124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0" name="Rectangle 46"/>
            <p:cNvSpPr/>
            <p:nvPr/>
          </p:nvSpPr>
          <p:spPr>
            <a:xfrm rot="13830600">
              <a:off x="4697280" y="4301640"/>
              <a:ext cx="7632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Text Box 48"/>
          <p:cNvSpPr/>
          <p:nvPr/>
        </p:nvSpPr>
        <p:spPr>
          <a:xfrm>
            <a:off x="2057400" y="45720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5A9-7998-49A0-BFDA-339665333D9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AB1-2DE1-4F69-88F7-D3E3345B637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number of nodes (N) is not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tworks continuously expand by additional new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WW: addition of new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itation: publication of new pa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attachment is not uni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node is linked with higher probability to a node that already has a large number of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WW: new documents link to well known sites (CNN, Yahoo, Goog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itation: Well cited papers are more likely to be cited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B0BE-3F31-48D7-9ED4-B98191BEFEA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C460-EE93-4AB7-A648-0FC6B9C6484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rt with (say) two vertices connected by an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i = 3 to 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each 1 &lt;= j &lt; i, d(j) = degree of vertex j so f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et Z = S d(j) (sum of all degrees so f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d new vertex i with k edges back to {1, …, i-1}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 is connected back to j with probability d(j)/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ertices j with high degree are likely to get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link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ich get rich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atural model for many proce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yperlinks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w business and social cont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nsportation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Generates a power law distribution of deg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ponent depends on value of 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195-85E0-48E4-9ECD-BB7DCCAEE9B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13A-FF5D-4299-9621-ADD83305BFE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eferential attachment expl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eavy-tailed degre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all diameter (~log(N), via “hub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ill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generate high clustering co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o bias towards local connectivity, but towards hu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A138-31F4-4F4C-B583-F07D9F32F8A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2628-BCD0-4856-B4DC-1A5FF4C4DC9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219320" y="487440"/>
            <a:ext cx="69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ase1: Internet Backb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3" descr="internet"/>
          <p:cNvPicPr/>
          <p:nvPr/>
        </p:nvPicPr>
        <p:blipFill>
          <a:blip r:embed="rId1"/>
          <a:stretch/>
        </p:blipFill>
        <p:spPr>
          <a:xfrm>
            <a:off x="228600" y="2722680"/>
            <a:ext cx="4229280" cy="2960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internet_power"/>
          <p:cNvPicPr/>
          <p:nvPr/>
        </p:nvPicPr>
        <p:blipFill>
          <a:blip r:embed="rId2"/>
          <a:stretch/>
        </p:blipFill>
        <p:spPr>
          <a:xfrm>
            <a:off x="4419720" y="2646360"/>
            <a:ext cx="4647960" cy="32972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5"/>
          <p:cNvSpPr/>
          <p:nvPr/>
        </p:nvSpPr>
        <p:spPr>
          <a:xfrm>
            <a:off x="4456800" y="6018840"/>
            <a:ext cx="45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Faloutsos, Faloutsos and Faloutsos, 199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362320" y="1447920"/>
            <a:ext cx="365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computers, router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physical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06B1-A5C9-48D4-B908-CD22623AF745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A3BC-5335-402C-B0FC-E687599EA81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2" descr="hal1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-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Internet-Map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8CD-5C2C-4DED-8DC7-58E4A8A589C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301B-284A-4A39-BB98-05E371BD0D9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163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Robustness of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Random vs. Scale-Free Networ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867280" y="1371600"/>
            <a:ext cx="2895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he accidental failure of a number of nodes in a random network can fracture the system into non-communicating islan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 are more robust in the face of such failu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cale-free networks are highly vulnerable to a coordinated attack against their hub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5781600" cy="515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1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E4A-F78D-4C35-878F-9AD663D8C92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egnaposto piè di pagina 2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535-DC2A-4A0C-A710-C96EA3DDBD7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600200" y="533520"/>
            <a:ext cx="586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ommunication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2120" y="12668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Earth is developing an electronic nervous system, a network with divers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ahoma"/>
                <a:ea typeface="굴림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nd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ahoma"/>
                <a:ea typeface="굴림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eick_arctran"/>
          <p:cNvPicPr/>
          <p:nvPr/>
        </p:nvPicPr>
        <p:blipFill>
          <a:blip r:embed="rId1"/>
          <a:stretch/>
        </p:blipFill>
        <p:spPr>
          <a:xfrm>
            <a:off x="228600" y="3886200"/>
            <a:ext cx="6324480" cy="2743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133720" y="2333520"/>
            <a:ext cx="1676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Tahoma"/>
                <a:ea typeface="굴림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-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굴림"/>
              </a:rPr>
              <a:t>-satell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029200" y="233352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8000"/>
                </a:solidFill>
                <a:latin typeface="Tahoma"/>
                <a:ea typeface="굴림"/>
              </a:rPr>
              <a:t>-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굴림"/>
              </a:rPr>
              <a:t>phone 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굴림"/>
              </a:rPr>
              <a:t>-TV c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  <a:ea typeface="굴림"/>
              </a:rPr>
              <a:t>-EM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343400" y="240984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2906280" y="2028960"/>
            <a:ext cx="1577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5793840" y="2057400"/>
            <a:ext cx="7308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781680" y="4115160"/>
            <a:ext cx="2210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mmunication networks: Man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non-identi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component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diver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conne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between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DD6A-15E5-410B-A6DC-77020399146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774-5F27-4E12-816A-2D5B8EB6553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6248520" y="4876920"/>
            <a:ext cx="838080" cy="228600"/>
          </a:xfrm>
          <a:prstGeom prst="leftArrow">
            <a:avLst>
              <a:gd name="adj1" fmla="val 0"/>
              <a:gd name="adj2" fmla="val 292833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4293-3DD6-490E-9F6C-B0145BD7DED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F750-BA63-4F4C-B8CF-375A2C55AA6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nformation on the Social Network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eterogeneous, multi-relational data represented as a graph o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Nodes are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ay have different kinds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s hav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s may have labels o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dges are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ay have different kinds of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may hav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may be directed, are not required to be bi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represent relationships and interactions between objects - rich content for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8C49-3A9D-4278-8B77-DF429F7AADC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66F3-F5F1-4125-812A-B9DE124FBC4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What is New for Link Mining Her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itional machine learning and data mining approaches assu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random sample of homogeneous objects from single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al world data se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ulti-relational, heterogeneous and semi-structur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Newly emerging research area at the intersection of research in social network and link analysis, hypertext and web mining, graph mining, relational learning and inductive logic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29D2-0816-4508-9DD6-C6DF753619C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C451-C833-4FCD-8350-5A383A60F84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9753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A Taxonomy of Common Link Mining Task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-Relat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-based object ra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-based object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 clustering (group det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 identification (entity resol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-Relat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 pre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raph-Related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ubgraph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raph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tive model for 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24CA-5CAA-455A-B4A7-B74AB14D91E6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F376-9490-4546-8642-959B38D18F7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9753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What Is a Link in Link Mining?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: relationship amo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wo kinds of linke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omogeneous vs. heteroge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omogeneous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ingle object type and single link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ingle model social networks (e.g., frien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WW: a collection of linked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eterogeneous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ultiple object and link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dical network: patients, doctors, disease, contacts, trea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bliographic network: publications, authors, 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BE3-2BF3-4CC0-991D-10E460AA6FB4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C839-DB0C-433B-BD8C-05FB5A66886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-Based Object Ranking (LBR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BR: Exploit the link structure of a graph to order or prioritize the set of objects within the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cused on graphs with single object type and single link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is a primary focus of link analysis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 informatio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geRank and Hits are typical LBR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 social network analysis (SNA), LBR is a core analysis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ive: rank individuals in terms of “centralit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egree centrality vs. eigen vector/power cent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ank objects relative to one or more relevant objects in the graph vs. ranks object over time in dynamic 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325-0686-4891-9FA6-8F7DAB899C3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DED-3331-459C-B7D7-DBB1E50A895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152640" y="304560"/>
            <a:ext cx="9296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SimSun"/>
              </a:rPr>
              <a:t>PageRank: Capturing Page Popularity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  <a:ea typeface="SimSu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Brin &amp; Pag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imSun"/>
              </a:rPr>
              <a:t>’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98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s are like citations in liter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page that is cited often can be expected to be more useful in gen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geRank is essenti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 cou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but improves over simple 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direct ci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(being cited by a highly cited paper counts a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moothing of citations (every page is assumed to have a non-zero citation cou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geRank can also be interpreted as random surfing (thus capturing popular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535-1CE1-4890-B632-0E936344B6F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260F-69EA-412F-BB0E-A9106620F13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The PageRank Algorithm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Brin &amp; Pag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imSun"/>
              </a:rPr>
              <a:t>’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98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56" name="Object 3"/>
          <p:cNvGraphicFramePr/>
          <p:nvPr/>
        </p:nvGraphicFramePr>
        <p:xfrm>
          <a:off x="2666880" y="3352680"/>
          <a:ext cx="3146400" cy="24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352680"/>
                    <a:ext cx="314640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Oval 4"/>
          <p:cNvSpPr/>
          <p:nvPr/>
        </p:nvSpPr>
        <p:spPr>
          <a:xfrm>
            <a:off x="685800" y="44197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Oval 6"/>
          <p:cNvSpPr/>
          <p:nvPr/>
        </p:nvSpPr>
        <p:spPr>
          <a:xfrm>
            <a:off x="1676520" y="45720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Oval 7"/>
          <p:cNvSpPr/>
          <p:nvPr/>
        </p:nvSpPr>
        <p:spPr>
          <a:xfrm>
            <a:off x="1371600" y="518148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8"/>
          <p:cNvSpPr/>
          <p:nvPr/>
        </p:nvSpPr>
        <p:spPr>
          <a:xfrm flipH="1">
            <a:off x="914040" y="38862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1447920" y="38862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10"/>
          <p:cNvSpPr/>
          <p:nvPr/>
        </p:nvSpPr>
        <p:spPr>
          <a:xfrm flipV="1">
            <a:off x="1523880" y="4800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914400" y="44956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266480" y="3314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1834920" y="4191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996840" y="48769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4498920" y="365760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Transition matrix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2590920" y="2994120"/>
            <a:ext cx="415296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539640" y="39625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18"/>
          <p:cNvSpPr/>
          <p:nvPr/>
        </p:nvSpPr>
        <p:spPr>
          <a:xfrm flipH="1" flipV="1">
            <a:off x="1599840" y="38858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2971800" y="5867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Iterate until converge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Essentially an eigenvector problem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0"/>
          <p:cNvSpPr/>
          <p:nvPr/>
        </p:nvSpPr>
        <p:spPr>
          <a:xfrm>
            <a:off x="4952880" y="4572000"/>
            <a:ext cx="838440" cy="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6629400" y="373392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Same 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/N (why?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22"/>
          <p:cNvSpPr/>
          <p:nvPr/>
        </p:nvSpPr>
        <p:spPr>
          <a:xfrm flipH="1">
            <a:off x="5638680" y="41148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5791320" y="50292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Stationary (“stable”) distribution, so we ignore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350532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403200" y="1441440"/>
            <a:ext cx="8356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andom surfing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any pag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ith prob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randomly jumping to a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ith prob. (1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randomly picking a link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26"/>
          <p:cNvSpPr/>
          <p:nvPr/>
        </p:nvSpPr>
        <p:spPr>
          <a:xfrm>
            <a:off x="4419720" y="5486400"/>
            <a:ext cx="1271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I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  <a:ea typeface="SimSun"/>
              </a:rPr>
              <a:t>ij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= 1/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7"/>
          <p:cNvSpPr/>
          <p:nvPr/>
        </p:nvSpPr>
        <p:spPr>
          <a:xfrm flipH="1">
            <a:off x="52578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8"/>
          <p:cNvSpPr/>
          <p:nvPr/>
        </p:nvSpPr>
        <p:spPr>
          <a:xfrm>
            <a:off x="-304920" y="5867280"/>
            <a:ext cx="398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Initial value p(d)=1/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61C-55BC-4878-AC8D-6207D8361A2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9E7-9213-4162-96A6-5BDAEC64CEF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HITS: Capturing Authorities &amp; Hub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Kleinberg’98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u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Pages that are widely cited are good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Pages that cite many other pages are good h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he key idea of H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Good authorities are cited by good h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Good hubs point to good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terative reinforc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434A-DEFF-4456-92CE-47C79725845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DBE-A3B5-4792-A254-60E431CDF7C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The HITS Algorithm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SimSun"/>
              </a:rPr>
              <a:t>(Kleinberg 98)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685800" y="350532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1447920" y="27432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1676520" y="365760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1371600" y="4267080"/>
            <a:ext cx="2286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7"/>
          <p:cNvSpPr/>
          <p:nvPr/>
        </p:nvSpPr>
        <p:spPr>
          <a:xfrm flipH="1">
            <a:off x="914040" y="29718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V="1">
            <a:off x="1447920" y="29718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9"/>
          <p:cNvSpPr/>
          <p:nvPr/>
        </p:nvSpPr>
        <p:spPr>
          <a:xfrm flipV="1">
            <a:off x="152388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0"/>
          <p:cNvSpPr/>
          <p:nvPr/>
        </p:nvSpPr>
        <p:spPr>
          <a:xfrm>
            <a:off x="914400" y="35812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1266480" y="2400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1834920" y="3276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996840" y="39625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3" name="Object 14"/>
          <p:cNvGraphicFramePr/>
          <p:nvPr/>
        </p:nvGraphicFramePr>
        <p:xfrm>
          <a:off x="2895480" y="1981080"/>
          <a:ext cx="23432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23432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15"/>
          <p:cNvSpPr/>
          <p:nvPr/>
        </p:nvSpPr>
        <p:spPr>
          <a:xfrm>
            <a:off x="5184720" y="22860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djacency matrix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539640" y="3048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17"/>
          <p:cNvSpPr/>
          <p:nvPr/>
        </p:nvSpPr>
        <p:spPr>
          <a:xfrm flipH="1" flipV="1">
            <a:off x="1599840" y="29714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18"/>
          <p:cNvSpPr/>
          <p:nvPr/>
        </p:nvSpPr>
        <p:spPr>
          <a:xfrm>
            <a:off x="2692440" y="606744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gain eigenvector problems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5688720" y="31240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itial values: a=h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20"/>
          <p:cNvSpPr/>
          <p:nvPr/>
        </p:nvSpPr>
        <p:spPr>
          <a:xfrm>
            <a:off x="5715000" y="3886200"/>
            <a:ext cx="9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AutoShape 21"/>
          <p:cNvSpPr/>
          <p:nvPr/>
        </p:nvSpPr>
        <p:spPr>
          <a:xfrm>
            <a:off x="5334120" y="37339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50292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ormaliz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3" name="Object 23"/>
          <p:cNvGraphicFramePr/>
          <p:nvPr/>
        </p:nvGraphicFramePr>
        <p:xfrm>
          <a:off x="5715000" y="5105520"/>
          <a:ext cx="243828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5105520"/>
                    <a:ext cx="2438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A2F2-ED21-4F8E-947E-D86EBF52F3A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1041-6B5B-41EF-8A79-4A1D0ACD406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Natural” Networks and Universality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nsider many kinds of netwo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ocial, technological, business, economic, content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se networks tend to share certain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inform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properti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rge scale; continual grow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istributed, organic growth: vertices “decide” who to link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nteraction restricted to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ixture of local and long-distance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bstract notions of distance: geographical, content, social,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 natural networks share more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universa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would these “universals” b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ow can we make them precise and measure the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ow can we explain their universal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is is the domain of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social network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ometimes also referred to as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link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448A-EF9E-47FB-B8C1-B9F36E730DD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F04A-3A4E-4D19-BB61-35850F0596E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lock-level Link Analysi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SimSun"/>
              </a:rPr>
              <a:t>(Cai et al. 04)</a:t>
            </a:r>
            <a:endParaRPr b="1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ost of the existing link analysis algorithms, e.g. PageRank and HITS, treat a web page as a single node in the web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However, in most cases, a web page contains multiple semantics and hence it might not be considered as an atomic and homogeneous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eb page is partitioned into blocks using the vision-based page segmenta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extract page-to-block, block-to-page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lock-level PageRank and Block-level H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A05-F555-46B5-8554-F8DAAC5A8D8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AF7D-184F-4572-9F2B-28C17419A41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-Based Object Classification (LBC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the category of an object based on its attributes, its links and the attributes of linke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the category of a web page, based on words that occur on the page, links between pages, anchor text, html tag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the topic of a paper, based on word occurrence, citations, co-c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disease type based on characteristics of the patients infected by th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whether a communication contact is by email, phone call or 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068-9EBA-443A-BEE5-782E4400298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D591-EA98-4838-85EB-967DADFAC5C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llenges in Link-Based Classific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abels of related objects tend to be cor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classification: Explore such correlations and jointly infer the categorical values associated with the objects in the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: Classify related news items in Reuter data sets (Chak’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imply incorp. words from neighboring documents: not help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ulti-relational classification is another solution for link-based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00A3-0131-468B-ABFB-903424D8E30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D131-17A5-4CB5-91DE-9FF57737AC3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Group Detec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luster the nodes in the graph into groups that share common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eb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dentifying commun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it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identifying research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Hierarchical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lockmodeling of S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pectral graph partit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tochastic blockmodel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ulti-relational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AC19-8CC3-45B1-A672-6F431C2F122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205-33F8-4489-97E1-2A8AD23927C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ntity Resolu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when two objects are the same, based on their attributes and their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lso known as: deduplication, reference reconciliation, co-reference resolution, object conso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when two sites are mirrors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when two citations are referring to the same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when two disease strains are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log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arning when two names refer to the same 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F88-B001-40E9-AB73-BD8758C5A69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5F6-1860-4462-B824-62A83962F2F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ntity Resolution Method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rlier viewed as pair-wise resolution problem: resolved based on the similarity of their attribu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mportance at considering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author links in bib data, hierarchical links between spatial references,  co-occurrence links between name references in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Use of links in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entity resolution: one resolution decision affects another if they are lin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pagating evidence over links in a depen.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abilistic models interact with different entity recognition deci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3B2-B486-4976-98B7-E5C2794D7F0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1590-7CA5-419F-A52C-36D42F177D6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Predic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 whether a link exists between two entities, based on attributes and other observed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if there will be a link between two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if a paper will cite another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who a patient’s contacts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ten viewed as a binary classific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ocal conditional probability model, based on structural and attribute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fficulty: sparseness of existing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prediction, e.g., Markov random field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2E3F-69DC-4130-8939-74F86606A37D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737-8FD5-4F98-9F04-08B23A6DF35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Cardinality Estim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the number of links to an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 the authority of a page based on the number of in-links; identifying hubs based on the number of out-li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the impact of a paper based on the number of c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pidem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the number of people that will be infected based on the infectiousness of a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edicting the number of objects reached along a path from an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number of pages retrieved by crawling a sit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i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predicting the number of citations of a particular author in a specific jour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E8E-A6FF-4AF9-8065-6A5FA34D4E73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FF4-3848-4023-9AE0-6EFC9CEA113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bgraph Discovery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ind characteristic subgra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cus of graph-based data m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logy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tein structure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munication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legitimate vs. illegitimate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emistr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hemical substructure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ubgraph pattern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raph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lassification based on subgraph patter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FFC2-12AF-4B8E-BABC-B1425C93F8D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8E2-1524-45F7-A9C1-198B06EB049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etadata Min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chema mapping, schema discovery, schema refor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matching between two bibliographic sourc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- discovering schema from unstructured or semi-structu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i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apping between two medical ont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FAFF-2159-4795-935C-B369AB85FB4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896-D006-48A3-BE85-4FB6C76BC63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ome Interesting Quantitie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굴림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onnected component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how many, and how lar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Networ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iamet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ximum (worst-case) or avera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xclude infinite distances? (disconnected compon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small-world phenomen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Cluster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o what extent that links tend to cluster “locally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the balance between local and long-distance connec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roles do the two types of links pl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egre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Tahoma"/>
                <a:ea typeface="굴림"/>
              </a:rPr>
              <a:t>distribu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the typical degree in the network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hat is the overall distrib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EC9B-51DC-4C0B-BEF0-B752FD328F66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9346-E64A-4583-8A77-47E1225F2B2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Mining Challeng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ogical vs. statistical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ature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ces vs.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class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llective conso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ffective use of labeled &amp; unlabel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 pre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losed vs. open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469800" y="4952880"/>
            <a:ext cx="8147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hallenges common to any link-based statistical model (Bayesian Logic Programs, Conditional Random Fields, Probabilistic Relational Models, Relational Markov Networks, Relational Probability Trees, Stochastic Logic Programming to name a few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7BA-DE0F-4932-9790-51BC9D03AF4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704-D4B8-4F2F-B9B7-B0F8B3D666F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ogical vs. Statistical Depend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herently handling two types of dependence struct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Link structure - the logical relationships between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Probabilistic dependence - statistical relationships between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hallenge: statistical models that support rich logical relationshi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odel search complicated by the fact that attributes can depend on arbitrarily linked attributes -- issue: how to search this huge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CDD-6542-49A3-9D1A-11AA8FCEF03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4A0D-11AE-4EF1-BB1E-811060832BE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eature Construc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 many cases, objects are linked to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of objects.  To construct a single feature from this set of objects, we may either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1EE-ECA0-40F3-8136-B618E2F6B09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0836-CE48-4001-9BE5-1539460CD02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ndividuals vs. Class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oes model ref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explicitly to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lasses or generic categories of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On one hand, 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 like to be able to model that a connection to a particular individual may be highly predi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On the other hand, 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 like our models to generalize to new situations, with different individ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95A-EE3C-41DF-BC9A-0ADFB208FEAC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5B2-F315-41EF-8221-1AB9A35640E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ollective Classific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Using a link-based statistical model for clas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ference using learned model is complicated by the fact that there is correlation between the object lab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410C-11F8-4AE5-BFB2-E840A7B7C13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058C-F3E7-4EB1-8FCB-D6CD2205EF0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ollective Consolid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Using a link-based statistical model for object consol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nsolidation decisions should not be made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92F1-BB3E-42AB-9484-F1E6D9C2BF7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98E-A2CD-404E-917F-A8DB41AF7293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abeled &amp; Unlabeled Data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 link-based domains, unlabeled data provide three sources of infor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Helps us infer object attribut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Links between unlabeled data allow us to make use of attributes of link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Links between labeled data and unlabeled data (training data and test data) help us make more accurate infer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FA2-2C08-440A-B919-0546A0198B21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4F90-7DB4-49F0-AC51-9E97680B4C1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Link Prior Probability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he prior probability of any particular link is typically extraordinarily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For medium-sized data sets, we have had success with building explicit models of link exis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t may be more effective to model links at higher level--required for large data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C73C-3595-4889-9916-B3EB456DC790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398-2539-4D31-BD15-47EEB99FB08A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losed World vs. Open World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he majority of SRL approaches make a closed world assumption, which assumes that we know all the potential entities in the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 many cases, this is unrealis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Work by Milch, Marti, Russell on B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B76-CA7A-4E51-AA50-8B0948E96BB9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3FD-3724-4840-ACFD-9C4DD7194748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AutoShape 4"/>
          <p:cNvSpPr/>
          <p:nvPr/>
        </p:nvSpPr>
        <p:spPr>
          <a:xfrm>
            <a:off x="3352680" y="5715000"/>
            <a:ext cx="838440" cy="228600"/>
          </a:xfrm>
          <a:prstGeom prst="leftArrow">
            <a:avLst>
              <a:gd name="adj1" fmla="val 0"/>
              <a:gd name="adj2" fmla="val 292958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196-DCC9-4FAC-95A4-8AE55AA7CC3E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72D4-9C99-4EAB-8943-A26F4D45DE9C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A “Canonical” Natural Network has…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Few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nected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ten only 1 or a small number, indep. of network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i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ten a constant independent of network size (like 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 perhaps growing only logarithmically with network size or even shrin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ypically exclude infinite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egree of clust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siderably more so than for a random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tension with small di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heavy-tai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degree distrib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 small but reliable number of high-degree ver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ten of </a:t>
            </a:r>
            <a:r>
              <a:rPr b="0" i="1" lang="en-US" sz="2400" spc="-1" strike="noStrike">
                <a:solidFill>
                  <a:srgbClr val="009900"/>
                </a:solidFill>
                <a:latin typeface="Tahoma"/>
                <a:ea typeface="굴림"/>
              </a:rPr>
              <a:t>power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D578-1E2C-4881-B327-693AC849B43A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C371-16EF-4785-929C-C0E5A230D78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: Mining on Social Network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D. Liben-Nowell and J. Kleinberg. The Link Prediction Problem for Social Networks. CIKM’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. Domingos and M. Richardson, Mining the Network Value of Customers. KDD’0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. Richardson and P. Domingos, Mining Knowledge-Sharing Sites for Viral Marketing. KDD’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D. Kempe, J. Kleinberg, and E. Tardos, Maximizing the Spread of Influence through a Social Network. KDD’03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. Domingos, Mining Social Networks for Viral Marketing. IEEE Intelligent Systems, 20(1), 80-82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. Brin and L. Page, The anatomy of a large scale hypertextual Web search engine. WWW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. Chakrabarti, B. Dom, D. Gibson, J. Kleinberg, S.R. Kumar, P. Raghavan, S. Rajagopalan, and A. Tomkins, Mining the link structure of the World Wide Web. IEEE Computer’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D. Cai, X. He, J. Wen, and W. Ma, Block-level Link Ana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IGIR'200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FEB0-7ABC-44BD-8EB8-417460C75878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9A4F-5B16-440A-9D51-94CB20B39D2E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Other Reference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cture notes from Professor Lise Getoor’s web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SimSun"/>
                <a:hlinkClick r:id="rId1"/>
              </a:rPr>
              <a:t>http://www.cs.umd.edu/~getoor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cture notes from Professor ChengXiang Zhai’s web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SimSun"/>
                <a:hlinkClick r:id="rId2"/>
              </a:rPr>
              <a:t>http://www-faculty.cs.uiuc.edu/~czhai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F03E-09DF-41FE-B2C2-84E7CC5AA51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5BF0-15A3-422D-894B-46F77C5BBC0F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Social Network Analysi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ocial Network 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tatistics and Probabil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Models of Social Network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Networks in Biolog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Mining 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 Social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315200" y="2666880"/>
            <a:ext cx="838080" cy="228600"/>
          </a:xfrm>
          <a:prstGeom prst="leftArrow">
            <a:avLst>
              <a:gd name="adj1" fmla="val 0"/>
              <a:gd name="adj2" fmla="val 292833"/>
            </a:avLst>
          </a:prstGeom>
          <a:solidFill>
            <a:srgbClr val="ff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101-51E9-4FAD-8903-BB834DAC2483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34C-B162-49A6-B9A3-12F0676FBAC2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he Poisson Distribu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Picture 5" descr="poisson4"/>
          <p:cNvPicPr/>
          <p:nvPr/>
        </p:nvPicPr>
        <p:blipFill>
          <a:blip r:embed="rId1"/>
          <a:stretch/>
        </p:blipFill>
        <p:spPr>
          <a:xfrm>
            <a:off x="4419720" y="1523880"/>
            <a:ext cx="4495680" cy="3324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poisson_photoelectrons"/>
          <p:cNvPicPr/>
          <p:nvPr/>
        </p:nvPicPr>
        <p:blipFill>
          <a:blip r:embed="rId2"/>
          <a:stretch/>
        </p:blipFill>
        <p:spPr>
          <a:xfrm>
            <a:off x="314280" y="1676520"/>
            <a:ext cx="4029120" cy="4029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60948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굴림"/>
              </a:rPr>
              <a:t>single photoelectron distribu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data 3"/>
          <p:cNvSpPr/>
          <p:nvPr/>
        </p:nvSpPr>
        <p:spPr>
          <a:xfrm>
            <a:off x="76320" y="63244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D8C-3858-4DD0-A02C-564A377E443B}" type="datetime3"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egnaposto piè di pagina 4"/>
          <p:cNvSpPr/>
          <p:nvPr/>
        </p:nvSpPr>
        <p:spPr>
          <a:xfrm>
            <a:off x="3048120" y="6324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Data Mining: Concepts and Techniqu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egnaposto numero diapositiva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0D3-1091-4D4A-9D4C-88ED92897BA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371600" y="51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Linear scales on both ax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7" descr="zipf_linear"/>
          <p:cNvPicPr/>
          <p:nvPr/>
        </p:nvPicPr>
        <p:blipFill>
          <a:blip r:embed="rId1"/>
          <a:stretch/>
        </p:blipFill>
        <p:spPr>
          <a:xfrm>
            <a:off x="1447920" y="2833560"/>
            <a:ext cx="2514600" cy="223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zipf_log"/>
          <p:cNvPicPr/>
          <p:nvPr/>
        </p:nvPicPr>
        <p:blipFill>
          <a:blip r:embed="rId2"/>
          <a:stretch/>
        </p:blipFill>
        <p:spPr>
          <a:xfrm>
            <a:off x="4876920" y="2841480"/>
            <a:ext cx="2514600" cy="224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47242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Logarithmic scales on both ax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858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same data plotted on linear and logarithmic scales. Both plots show a Zipf distribution with 300 datapoi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Zipf’s Law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Paolo</cp:lastModifiedBy>
  <cp:lastPrinted>1999-09-10T20:38:56Z</cp:lastPrinted>
  <dcterms:modified xsi:type="dcterms:W3CDTF">2008-05-20T06:43:40Z</dcterms:modified>
  <cp:revision>401</cp:revision>
  <dc:subject/>
  <dc:title>No Slide Title</dc:title>
</cp:coreProperties>
</file>